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EFA6-D85F-4DC4-AC7D-5C262AA2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A10F-6B3B-4F3F-AFD3-C45CFDB7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CFCE-E423-459A-BBF1-4C5F4A8E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B651-26DD-4F3D-B6ED-51B0D034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C421-D3D8-4BDE-AB7B-E421BB6D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9011-2507-4F0C-B424-73A98B8D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AF56-4F1A-4BD5-B7AE-991A5EB9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E56E-4466-42BB-B84B-8101FD62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8E46-88FD-47A1-8C98-1F585895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74D0-7307-4DFE-9FEA-2B89C688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5584-D3B8-44BC-8E7B-AE4C6E86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7A9D-9913-437D-8EE7-D2DF6D62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6738-440B-427A-9443-A17F9C4A68D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60640" y="4635360"/>
            <a:ext cx="2519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IRMWARE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UID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3789360" y="2244600"/>
            <a:ext cx="23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tand Alone Typ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FS-T4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V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SYSTE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692280" y="192708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41720" y="759636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evision Date : 2004. 08. 16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0280" y="856152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260280" y="84924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3284640" y="86263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3000" y="971280"/>
            <a:ext cx="6172200" cy="3380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NSTAL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76280" y="1519200"/>
            <a:ext cx="395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1. DVR Upgrade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모드 부팅하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20640" y="1822320"/>
            <a:ext cx="5761080" cy="23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•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HDD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에 저장된 아이피로 부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①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DVR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전원이 뽑힌 상태에서 전면 키패드 버튼 ‘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MENU’ + ‘ENTER’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버튼을 동시에 누른 상태에서 전원을 </a:t>
            </a:r>
            <a:br>
              <a:rPr sz="900"/>
            </a:b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  꼽습니다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②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업그레이드 대기 상태에서 전면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LED ‘ALARM’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과 ‘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NETWORK’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에 불이 들어 오는 것을 확인합니다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③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이 모드에서는 사용자가 지정한 아이피로 통신이 가능한 반면에 전송 속도가 느린 단점이 있습니다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•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크로스 케이블을 통한 직접연결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192.168.50.2(PC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와 직접 연결된 상태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로 부팅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①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DVR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전원이 뽑힌 상태에서 전면 키패드 버튼 ‘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SCR_MODE’ + ‘RETURN’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버튼을 동시에 누른 상태에서 </a:t>
            </a:r>
            <a:br>
              <a:rPr sz="900"/>
            </a:b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   전원을 꼽습니다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②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업그레이드 대기 상태에서 전면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LED ‘ALARM’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과 ‘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NETWORK’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에 불이 들어 오는 것을 확인합니다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③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DVR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과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PC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본체를 크로스 케이블로 연결하고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PC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본체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IP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주소를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92.168.50.1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로 서브넷 마스크를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255.255.255.0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으로 세팅 합니다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④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이 모드에서는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DVR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과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가 직접 연결된 상태에서만 가능하며 전송 속도가 빠른 장점이 있습니다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76280" y="4183200"/>
            <a:ext cx="395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2. Image Downloader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사용법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8304120"/>
            <a:ext cx="215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[Image Downloader Main Window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476280" y="4500720"/>
            <a:ext cx="5977080" cy="13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•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에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DVR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세트에 포함되어 있는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Install CD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를 넣은 후 ‘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Image Downloader’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폴더에 있 는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ethDownloader.ex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를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Copy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합니다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•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본사 홈페이지에 접속하여 최신 펌웨어 혹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PTZ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프로토콜을 다운로드 받아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PC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특정폴더에 저장 시킵니다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•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에 복사 시킨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ethDownloader.exe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를 실행 시킵니다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•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다운로드 형태 중 사용자에 맞는 형태를 선택합니다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907920" y="5940360"/>
            <a:ext cx="28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909720" y="615636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②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3357720" y="612792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③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909720" y="651672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④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909720" y="788508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84280" y="5722920"/>
            <a:ext cx="3637080" cy="2521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25360" y="6084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1125360" y="6300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5518080" y="615636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③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869000" y="6300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1125360" y="665964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1125360" y="802800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0280" y="856152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260280" y="84924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3284640" y="86263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33000" y="971280"/>
            <a:ext cx="6172200" cy="3380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NSTAL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76280" y="1504800"/>
            <a:ext cx="5761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인증키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현재 사용 하지 않는 기능입니다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. (</a:t>
            </a:r>
            <a:r>
              <a:rPr b="0" lang="zh-CN" sz="900" spc="-1" strike="noStrike">
                <a:solidFill>
                  <a:srgbClr val="cc3300"/>
                </a:solidFill>
                <a:latin typeface="굴림"/>
              </a:rPr>
              <a:t>사용불가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Target IP :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현재 연결되어 있는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DVR(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펌웨어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Upgrade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할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DVR)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IP Address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를 입력합니다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                DVR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Upgrade Mode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에 따른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IP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를 세팅하십시오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. ( default : 192.168.0.1 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Target Port : DVR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과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간의 연결포트를 입력합니다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. ( default : 5000  </a:t>
            </a:r>
            <a:r>
              <a:rPr b="0" lang="zh-CN" sz="900" spc="-1" strike="noStrike">
                <a:solidFill>
                  <a:srgbClr val="cc3300"/>
                </a:solidFill>
                <a:latin typeface="굴림"/>
              </a:rPr>
              <a:t>변경불가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다운로드 형태 지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49360" y="4451400"/>
            <a:ext cx="5688000" cy="175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ⓐ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어플리케이션 이미지만 다운로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application + ptz_data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만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Upgrade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합니다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MAC Address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변경은 불가합니다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. ( image filename = iDVR400T.img 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ⓑ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PTZ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이미지 다운로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PTZ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이미지를 다운로드 하고 제품 플래시 메모리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Protocol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을 저장합니다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( image filename = ptzimage.bin 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ⓒ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PTZ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데이터 편집 버튼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PTZ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데이터 이미지 생성기창을 띄웁니다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ⓓ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이미지경로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다운로드 할 이미지를 선택합니다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404640" y="6431040"/>
            <a:ext cx="576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다운로드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: DVR IP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및 다운로드 형태 지정한 후 펌웨어 및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PTZ Protocol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다운로드 시킵니다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98600" y="2484360"/>
            <a:ext cx="3470400" cy="1727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36640" y="2975040"/>
            <a:ext cx="28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1052640" y="3059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852120" y="3191040"/>
            <a:ext cx="26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ⓑ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1052640" y="3276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244840" y="3178080"/>
            <a:ext cx="26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ⓒ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723920" y="3276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5306760" y="3348000"/>
            <a:ext cx="26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ⓓ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724280" y="34923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60280" y="856152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3284640" y="86263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49360" y="312840"/>
            <a:ext cx="5759280" cy="25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※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version 1.3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부터  펌웨어 업데이트 상황이 화면을 통하여 지원되었기 때문에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version 1.3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에서 펌웨어 업그레이드시  화면이 나오지 않은 것은 에러가 아닙니다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참고 바랍니다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준비시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NETWORK,ALARM LED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점등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firmware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업데이트시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RECORD LED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점등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※ </a:t>
            </a:r>
            <a:r>
              <a:rPr b="0" lang="ko-KR" sz="900" spc="-1" strike="noStrike">
                <a:solidFill>
                  <a:srgbClr val="cc3300"/>
                </a:solidFill>
                <a:latin typeface="굴림"/>
              </a:rPr>
              <a:t>Uprade</a:t>
            </a:r>
            <a:r>
              <a:rPr b="0" lang="ko-KR" sz="900" spc="-1" strike="noStrike">
                <a:solidFill>
                  <a:srgbClr val="cc3300"/>
                </a:solidFill>
                <a:latin typeface="굴림"/>
              </a:rPr>
              <a:t>가 끝날때까지  절대로  전원를 끄지 마십시요</a:t>
            </a:r>
            <a:r>
              <a:rPr b="0" lang="ko-KR" sz="900" spc="-1" strike="noStrike">
                <a:solidFill>
                  <a:srgbClr val="cc33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※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어플이케이션 이미지만 다운로드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"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옵션은 사용자가 추가한 프로토콜을 사용할 수 없게 만듭니다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900" spc="-1" strike="noStrike">
                <a:solidFill>
                  <a:srgbClr val="cc3300"/>
                </a:solidFill>
                <a:latin typeface="굴림"/>
              </a:rPr>
              <a:t>기존에 추가한 </a:t>
            </a:r>
            <a:r>
              <a:rPr b="0" lang="ko-KR" sz="900" spc="-1" strike="noStrike">
                <a:solidFill>
                  <a:srgbClr val="cc3300"/>
                </a:solidFill>
                <a:latin typeface="굴림"/>
              </a:rPr>
              <a:t>PTZ </a:t>
            </a:r>
            <a:r>
              <a:rPr b="0" lang="ko-KR" sz="900" spc="-1" strike="noStrike">
                <a:solidFill>
                  <a:srgbClr val="cc3300"/>
                </a:solidFill>
                <a:latin typeface="굴림"/>
              </a:rPr>
              <a:t>프로토콜이 있는 상태에서 이 옵션을 선택하여 다운로드를 하면 기존에 추가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cc33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cc3300"/>
                </a:solidFill>
                <a:latin typeface="굴림"/>
              </a:rPr>
              <a:t>PTZ </a:t>
            </a:r>
            <a:r>
              <a:rPr b="0" lang="ko-KR" sz="900" spc="-1" strike="noStrike">
                <a:solidFill>
                  <a:srgbClr val="cc3300"/>
                </a:solidFill>
                <a:latin typeface="굴림"/>
              </a:rPr>
              <a:t>프로토콜은 기본 회사에서 공급한 </a:t>
            </a:r>
            <a:r>
              <a:rPr b="0" lang="ko-KR" sz="900" spc="-1" strike="noStrike">
                <a:solidFill>
                  <a:srgbClr val="cc3300"/>
                </a:solidFill>
                <a:latin typeface="굴림"/>
              </a:rPr>
              <a:t>PTZ </a:t>
            </a:r>
            <a:r>
              <a:rPr b="0" lang="ko-KR" sz="900" spc="-1" strike="noStrike">
                <a:solidFill>
                  <a:srgbClr val="cc3300"/>
                </a:solidFill>
                <a:latin typeface="굴림"/>
              </a:rPr>
              <a:t>프로토콜로 덥어 씌워지기 때문에 추가한 프로토콜 데이터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cc3300"/>
                </a:solidFill>
                <a:latin typeface="굴림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cc33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cc3300"/>
                </a:solidFill>
                <a:latin typeface="굴림"/>
              </a:rPr>
              <a:t>날아가게 됩니다</a:t>
            </a:r>
            <a:r>
              <a:rPr b="0" lang="ko-KR" sz="900" spc="-1" strike="noStrike">
                <a:solidFill>
                  <a:srgbClr val="cc3300"/>
                </a:solidFill>
                <a:latin typeface="굴림"/>
              </a:rPr>
              <a:t>. </a:t>
            </a:r>
            <a:r>
              <a:rPr b="0" lang="ko-KR" sz="900" spc="-1" strike="noStrike">
                <a:solidFill>
                  <a:srgbClr val="cc3300"/>
                </a:solidFill>
                <a:latin typeface="굴림"/>
              </a:rPr>
              <a:t>주의하시기 바랍니다</a:t>
            </a:r>
            <a:r>
              <a:rPr b="0" lang="ko-KR" sz="900" spc="-1" strike="noStrike">
                <a:solidFill>
                  <a:srgbClr val="cc3300"/>
                </a:solidFill>
                <a:latin typeface="굴림"/>
              </a:rPr>
              <a:t>.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02:28:36Z</dcterms:created>
  <dc:creator>kkk</dc:creator>
  <dc:description/>
  <dc:language>en-US</dc:language>
  <cp:lastModifiedBy>shimji</cp:lastModifiedBy>
  <dcterms:modified xsi:type="dcterms:W3CDTF">2004-08-26T02:28:43Z</dcterms:modified>
  <cp:revision>8</cp:revision>
  <dc:subject/>
  <dc:title>슬라이드 1</dc:title>
</cp:coreProperties>
</file>